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58D-8104-43BC-B137-75C42156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AB3-256C-4448-A40C-9662B17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7C4-7AE6-449F-8111-6D22467C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896-5CD2-4EA8-934E-1F9C384D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69F-66F0-4F8F-BEF1-96AD14F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B90-72C8-4E13-BF4E-58B7647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15F-1BFE-424D-BACE-DE8475BF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7FC-9F92-4C25-A772-1DBADE26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A4A-0D22-4E39-B022-87A2A11C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E91-5F8D-4780-BB78-0AB1445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6E-22B2-449D-BD04-E5249C8B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978-8FFA-4B68-9B3B-54E2747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37BE-7FC4-454B-A154-116D89E2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Mesdames, achetez un chien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i vous voulez un compagnon qui ne touchera jamais la commande à distance de la télé, se moque totalement du football et peut rester assis à vos côtés à regarder un film romantiq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0007_image005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Si vous voulez un compagnon qui sera content rien qu’à se mettre sur le lit à vous chauffer les pieds et que vous pourrez éjecter sans ménagements s’il ronf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lide0008_image006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Si vous voulez un compagnon qui ne critiquera jamais ce que vous faites et qui se moque totalement du fait que vous soyez jolie ou moch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0009_image007" descr=""/>
          <p:cNvPicPr/>
          <p:nvPr/>
        </p:nvPicPr>
        <p:blipFill>
          <a:blip r:embed="rId1"/>
          <a:stretch/>
        </p:blipFill>
        <p:spPr>
          <a:xfrm>
            <a:off x="2013120" y="0"/>
            <a:ext cx="51195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i vous voulez un compagnon qui se fiche complètement que vous soyez grosse ou mince, jeune ou vieil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lide0010_image008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 Sans MS"/>
              </a:rPr>
              <a:t>Si vous voulez un compagnon qui sera toujours attentif à la moindre de vos paroles et vous aimera inconditionnellement, et pour l’éternité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0011_image009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Si vous voulez un compagnon qui vous apportera le journal sans le retourner dans tous les sens et arracher la page des sports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is, d’un autre côté, si vous voulez un compagnon qui ne réponde JAMAIS quand vous l’appelez, vous ignore TOTALEMENT lorsque vous rentrez à la maison, laisse des cheveux PARTOUT, vous marche CARREMENT dessus, sort le soir, voire la nuit, rentre seulement à la maison pour manger et dormir, et agit toujours à sa guise et comme si votre existence entière était exclusivement consacrée à SA PROPRE SATISFAC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slide0012_image010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Alors Mesdames, achetez un cha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Vous pensiez à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QUOI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 !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0001_image001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i vous voulez un compagnon qui fera éclater sa joie chaque fois que vous rentrerez à la maison...</a:t>
            </a:r>
            <a:r>
              <a:rPr b="0" lang="en-US" sz="3200" spc="-1" strike="noStrike">
                <a:solidFill>
                  <a:srgbClr val="000000"/>
                </a:solidFill>
                <a:latin typeface="Adorab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lide0004_image002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Si vous voulez un compagnon qui mangera tout ce que vous mettrez face à lui et ne vous dira jamais qu’avec sa mère c’était meilleu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0005_image003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Si vous voulez un compagnon qui sera toujours d’accord de sortir se promener en votre compagnie, à n’importe quelle heure, où et aussi longtemps que vous le désirez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slide0006_image004" descr=""/>
          <p:cNvPicPr/>
          <p:nvPr/>
        </p:nvPicPr>
        <p:blipFill>
          <a:blip r:embed="rId1"/>
          <a:stretch/>
        </p:blipFill>
        <p:spPr>
          <a:xfrm>
            <a:off x="2006640" y="0"/>
            <a:ext cx="5132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chetez un ch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20:11:41Z</dcterms:created>
  <dc:creator>Cindy M</dc:creator>
  <dc:description/>
  <dc:language>en-US</dc:language>
  <cp:lastModifiedBy>PEVENA01</cp:lastModifiedBy>
  <dcterms:modified xsi:type="dcterms:W3CDTF">2004-02-11T10:45:44Z</dcterms:modified>
  <cp:revision>12</cp:revision>
  <dc:subject/>
  <dc:title>Slide 1</dc:title>
</cp:coreProperties>
</file>