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4DF3-B726-4200-B70C-73E9643CB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FA47-74EA-4A40-993C-F877367AF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5FE3-5C47-4704-BDF3-404835EB6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7F4B-1349-4A3A-8C70-E990625A8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E392-1020-42AC-91D2-A9891AD47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4B0B-47C2-416A-A9A2-936B702D8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FEC5-221E-4967-BA0F-C5C1B2050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EFE6-C333-434E-B37E-6DD17AC1D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FDAB-FD2F-4623-BBDB-6C3A6ED14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5793-91A9-476D-851D-19C11316D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3B98-4AA2-4845-939D-B67BAACE6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DD83-AA84-4519-BC9C-076B73723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3E9E5-E56E-4C28-B796-D900DDE6FE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Comic Sans MS"/>
              </a:rPr>
              <a:t>Mesdames, achetez un chien !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Si vous voulez un compagnon qui ne touchera jamais la commande à distance de la télé, se moque totalement du football et peut rester assis à vos côtés à regarder un film romantique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slide0007_image005" descr=""/>
          <p:cNvPicPr/>
          <p:nvPr/>
        </p:nvPicPr>
        <p:blipFill>
          <a:blip r:embed="rId1"/>
          <a:stretch/>
        </p:blipFill>
        <p:spPr>
          <a:xfrm>
            <a:off x="2006640" y="0"/>
            <a:ext cx="513252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Achetez un chie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cc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00"/>
                </a:solidFill>
                <a:latin typeface="Comic Sans MS"/>
              </a:rPr>
              <a:t>Si vous voulez un compagnon qui sera content rien qu’à se mettre sur le lit à vous chauffer les pieds et que vous pourrez éjecter sans ménagements s’il ronfle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slide0008_image006" descr=""/>
          <p:cNvPicPr/>
          <p:nvPr/>
        </p:nvPicPr>
        <p:blipFill>
          <a:blip r:embed="rId1"/>
          <a:stretch/>
        </p:blipFill>
        <p:spPr>
          <a:xfrm>
            <a:off x="2006640" y="0"/>
            <a:ext cx="513252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Achetez un chie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Si vous voulez un compagnon qui ne critiquera jamais ce que vous faites et qui se moque totalement du fait que vous soyez jolie ou moche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slide0009_image007" descr=""/>
          <p:cNvPicPr/>
          <p:nvPr/>
        </p:nvPicPr>
        <p:blipFill>
          <a:blip r:embed="rId1"/>
          <a:stretch/>
        </p:blipFill>
        <p:spPr>
          <a:xfrm>
            <a:off x="2013120" y="0"/>
            <a:ext cx="511956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Comic Sans MS"/>
              </a:rPr>
              <a:t>Achetez un chie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Comic Sans MS"/>
              </a:rPr>
              <a:t>Si vous voulez un compagnon qui se fiche complètement que vous soyez grosse ou mince, jeune ou vieille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slide0010_image008" descr=""/>
          <p:cNvPicPr/>
          <p:nvPr/>
        </p:nvPicPr>
        <p:blipFill>
          <a:blip r:embed="rId1"/>
          <a:stretch/>
        </p:blipFill>
        <p:spPr>
          <a:xfrm>
            <a:off x="2006640" y="0"/>
            <a:ext cx="513252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Achetez un chie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cc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00"/>
                </a:solidFill>
                <a:latin typeface="Comic Sans MS"/>
              </a:rPr>
              <a:t>Si vous voulez un compagnon qui sera toujours attentif à la moindre de vos paroles et vous aimera inconditionnellement, et pour l’éternité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slide0011_image009" descr=""/>
          <p:cNvPicPr/>
          <p:nvPr/>
        </p:nvPicPr>
        <p:blipFill>
          <a:blip r:embed="rId1"/>
          <a:stretch/>
        </p:blipFill>
        <p:spPr>
          <a:xfrm>
            <a:off x="2006640" y="0"/>
            <a:ext cx="513252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Comic Sans MS"/>
              </a:rPr>
              <a:t>Achetez un chie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99"/>
                </a:solidFill>
                <a:latin typeface="Comic Sans MS"/>
              </a:rPr>
              <a:t>Si vous voulez un compagnon qui vous apportera le journal sans le retourner dans tous les sens et arracher la page des sports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ais, d’un autre côté, si vous voulez un compagnon qui ne réponde JAMAIS quand vous l’appelez, vous ignore TOTALEMENT lorsque vous rentrez à la maison, laisse des cheveux PARTOUT, vous marche CARREMENT dessus, sort le soir, voire la nuit, rentre seulement à la maison pour manger et dormir, et agit toujours à sa guise et comme si votre existence entière était exclusivement consacrée à SA PROPRE SATISFACTION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slide0012_image010" descr=""/>
          <p:cNvPicPr/>
          <p:nvPr/>
        </p:nvPicPr>
        <p:blipFill>
          <a:blip r:embed="rId1"/>
          <a:stretch/>
        </p:blipFill>
        <p:spPr>
          <a:xfrm>
            <a:off x="0" y="9360"/>
            <a:ext cx="9144000" cy="683928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Comic Sans MS"/>
              </a:rPr>
              <a:t>Alors Mesdames, achetez un chat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5105160"/>
            <a:ext cx="91440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Comic Sans MS"/>
              </a:rPr>
              <a:t>Vous pensiez à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QUOI</a:t>
            </a:r>
            <a:r>
              <a:rPr b="1" lang="en-US" sz="3200" spc="-1" strike="noStrike">
                <a:solidFill>
                  <a:srgbClr val="ff9900"/>
                </a:solidFill>
                <a:latin typeface="Comic Sans MS"/>
              </a:rPr>
              <a:t> !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slide0001_image001" descr=""/>
          <p:cNvPicPr/>
          <p:nvPr/>
        </p:nvPicPr>
        <p:blipFill>
          <a:blip r:embed="rId1"/>
          <a:stretch/>
        </p:blipFill>
        <p:spPr>
          <a:xfrm>
            <a:off x="0" y="9360"/>
            <a:ext cx="9144000" cy="68392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hetez un chie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Si vous voulez un compagnon qui fera éclater sa joie chaque fois que vous rentrerez à la maison...</a:t>
            </a:r>
            <a:r>
              <a:rPr b="0" lang="en-US" sz="3200" spc="-1" strike="noStrike">
                <a:solidFill>
                  <a:srgbClr val="000000"/>
                </a:solidFill>
                <a:latin typeface="Adorabl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slide0004_image002" descr=""/>
          <p:cNvPicPr/>
          <p:nvPr/>
        </p:nvPicPr>
        <p:blipFill>
          <a:blip r:embed="rId1"/>
          <a:stretch/>
        </p:blipFill>
        <p:spPr>
          <a:xfrm>
            <a:off x="2006640" y="0"/>
            <a:ext cx="513252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Achetez un chie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Si vous voulez un compagnon qui mangera tout ce que vous mettrez face à lui et ne vous dira jamais qu’avec sa mère c’était meilleur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slide0005_image003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Achetez un chie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Comic Sans MS"/>
              </a:rPr>
              <a:t>Si vous voulez un compagnon qui sera toujours d’accord de sortir se promener en votre compagnie, à n’importe quelle heure, où et aussi longtemps que vous le désirez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slide0006_image004" descr=""/>
          <p:cNvPicPr/>
          <p:nvPr/>
        </p:nvPicPr>
        <p:blipFill>
          <a:blip r:embed="rId1"/>
          <a:stretch/>
        </p:blipFill>
        <p:spPr>
          <a:xfrm>
            <a:off x="2006640" y="0"/>
            <a:ext cx="513252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Achetez un chie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3T20:11:41Z</dcterms:created>
  <dc:creator>Cindy M</dc:creator>
  <dc:description/>
  <dc:language>en-US</dc:language>
  <cp:lastModifiedBy>PEVENA01</cp:lastModifiedBy>
  <dcterms:modified xsi:type="dcterms:W3CDTF">2004-02-11T10:45:44Z</dcterms:modified>
  <cp:revision>12</cp:revision>
  <dc:subject/>
  <dc:title>Slide 1</dc:title>
</cp:coreProperties>
</file>